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912-9CB2-4004-A31A-D405DF78B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F52-0AA8-4FC8-86F2-8D15EC69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EDD-6AB0-4A25-A8D1-54DCC805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C97F-CAAD-4AD3-940A-138198F6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16D8-F496-4A19-B67F-98EBD97E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96F-7977-4C55-9AB7-CDAD40467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0D28-14C1-49E7-87D7-3C18345A9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C428-1308-4A0F-8C67-053E0BC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38F5-2431-4C7A-BDE5-B0BECEE8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45BE-A3F6-4D46-A5F7-4D790F3B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6C02-AB4F-42F1-8A21-0AE434B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C7D7-AA3C-410E-9EB8-3BA1A02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90D3-9AEB-4155-BF7D-16CBAAA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6C8AE-CD7C-4200-922F-87B84397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3FA1-BCF8-4091-9266-FEF8036E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929A9-9AF7-4F6F-AAA3-FB1D542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8208-0783-4CE4-8494-5A97C56A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2FE2-ABB8-4E6B-9FCD-2FC899CB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0F0-4A61-4762-ABCE-DEB8A941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EC0-16CE-4209-B258-8BC73F0D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22CC-8A1F-44C1-A69B-D05EB1D0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AEC-F6D3-4476-B47B-03100236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DC6-84F8-47FA-8C7D-4792B56F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313-378F-4B67-B08D-0274458B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2275-5368-41B7-9B72-1A7AED3714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C1B8-17D9-4539-A092-856428ED6691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21932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dapted from ‘How to pass exams’ in Burns &amp; Sinfield: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Essential Study Skills: the complete guide to success @ univers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Revision and exam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rt &amp; long term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ong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UGE! Infinite number of mem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sistent – memories last &amp; la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put is relatively slow – it takes time to build memo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ccess – depends on input – how you put it in is how you get it out … S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Remember… Primary scho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did you remember th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:\Program Files\Microsoft Office\Clipart\standard\stddir1\BD07210_.WMF"/>
          <p:cNvPicPr/>
          <p:nvPr/>
        </p:nvPicPr>
        <p:blipFill>
          <a:blip r:embed="rId1"/>
          <a:stretch/>
        </p:blipFill>
        <p:spPr>
          <a:xfrm>
            <a:off x="1066680" y="2792520"/>
            <a:ext cx="71629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61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Comic Sans MS"/>
              </a:rPr>
              <a:t>What type of memory do you have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isu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reduce a topic to a key word pattern with colour &amp; carto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ur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reduce the key words onto your own tape and learn (singing along if you must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Feel”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ased memory – make learning maps, move around as you recite or act out key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7" descr="C:\WINDOWS\Application Data\Microsoft\Media Catalog\pcs_popular_174.wmf"/>
          <p:cNvPicPr/>
          <p:nvPr/>
        </p:nvPicPr>
        <p:blipFill>
          <a:blip r:embed="rId1"/>
          <a:stretch/>
        </p:blipFill>
        <p:spPr>
          <a:xfrm>
            <a:off x="5145120" y="2052720"/>
            <a:ext cx="380988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Strange but true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se Buzan’s revision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fter a study session, reduce your notes to key words (10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y later write out those key words from memory, refer to the actual notes and fill in the gaps (2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week later, write the notes out from memory &amp; plug gaps again (2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month later repeat this (2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x months later repeat again (2 mi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it or los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So- how to pass exams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219320" y="3048120"/>
            <a:ext cx="2666880" cy="20574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SQP4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5943600" y="1752480"/>
            <a:ext cx="2209680" cy="48006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rve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Q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ues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di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epar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ractice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Which means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rvey: past papers – know exam format, length, question style, topics –c.f. module aims &amp; 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Question: what do I need to so and learn to pass this course (well!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dict: topics that I will answer questions up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lan: revision strategy &amp; materials – make sure you see it, hear it, say it &amp;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e: subject pattern notes; cue cards; mnemonics; revision games &amp; tap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actise: timed brainstorming &amp; timed wr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Tips: 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Test yourself and your friends; think of it like a driving test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…think smart – be posi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Fear is normal – it does not mean give up and go hom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can handl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prep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looking forward to my ex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 am responsible for my learning…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5" descr="C:\WINDOWS\Application Data\Microsoft\Media Catalog\pcs_popular_186.wmf"/>
          <p:cNvPicPr/>
          <p:nvPr/>
        </p:nvPicPr>
        <p:blipFill>
          <a:blip r:embed="rId1"/>
          <a:stretch/>
        </p:blipFill>
        <p:spPr>
          <a:xfrm>
            <a:off x="5145120" y="2290680"/>
            <a:ext cx="38098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…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762120" y="2666880"/>
            <a:ext cx="7467480" cy="27432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 Sans MS"/>
              </a:rPr>
              <a:t>Good Luck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What are exam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Oval 4"/>
          <p:cNvSpPr/>
          <p:nvPr/>
        </p:nvSpPr>
        <p:spPr>
          <a:xfrm>
            <a:off x="6095880" y="914400"/>
            <a:ext cx="2590920" cy="251460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form of tor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velope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th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aff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3048120" y="3429000"/>
            <a:ext cx="2971800" cy="2590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r…where yo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how the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tween that les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304920" y="2057400"/>
            <a:ext cx="3047760" cy="28195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 – they 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signed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est yo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nowledg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t you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emo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7"/>
          <p:cNvSpPr/>
          <p:nvPr/>
        </p:nvSpPr>
        <p:spPr>
          <a:xfrm>
            <a:off x="6019920" y="4038480"/>
            <a:ext cx="3124080" cy="2514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at piece 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ursework 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those boo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were sup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ad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xam myths …                   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ams are just for people with good memories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improve your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ou can apply what you have lear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ook at past papers to prepare – and practice timing yourself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C:\WINDOWS\Application Data\Microsoft\Media Catalog\pcs_popular_223.wmf"/>
          <p:cNvPicPr/>
          <p:nvPr/>
        </p:nvPicPr>
        <p:blipFill>
          <a:blip r:embed="rId1"/>
          <a:stretch/>
        </p:blipFill>
        <p:spPr>
          <a:xfrm>
            <a:off x="2409840" y="2017800"/>
            <a:ext cx="1353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Exam myths…                    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5" descr="C:\WINDOWS\Application Data\Microsoft\Media Catalog\pcs_popular_181.wmf"/>
          <p:cNvPicPr/>
          <p:nvPr/>
        </p:nvPicPr>
        <p:blipFill>
          <a:blip r:embed="rId1"/>
          <a:stretch/>
        </p:blipFill>
        <p:spPr>
          <a:xfrm>
            <a:off x="1219320" y="1981080"/>
            <a:ext cx="297180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43400" y="2017800"/>
            <a:ext cx="461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xams are designed to catch you out! They will just make me feel like a fool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cause exams are trying to get you to apply your knowledge in new situations, it can feel like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Not give up! There are lots of things to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P: look at past exam pa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And …                              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39261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t’s all right if you can write really fas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reality, examiners are looking for quality, not qua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iners don’t want you to write all the things you know about a topic – they want you to answer the question by applying your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5" descr="C:\WINDOWS\Application Data\Microsoft\Media Catalog\pcs_popular_197.wmf"/>
          <p:cNvPicPr/>
          <p:nvPr/>
        </p:nvPicPr>
        <p:blipFill>
          <a:blip r:embed="rId1"/>
          <a:stretch/>
        </p:blipFill>
        <p:spPr>
          <a:xfrm>
            <a:off x="5396040" y="1828800"/>
            <a:ext cx="3287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</a:rPr>
              <a:t>4                    is…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2520" y="2017800"/>
            <a:ext cx="4002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How can you learn twelve weeks work in two week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trary to popular belief, revision doesn’t start just before exams – that’s when people can panic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earn by thinking about, using and remembering what we learned over a whole course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5" descr="C:\WINDOWS\Application Data\Microsoft\Media Catalog\pcs_popular_200.wmf"/>
          <p:cNvPicPr/>
          <p:nvPr/>
        </p:nvPicPr>
        <p:blipFill>
          <a:blip r:embed="rId1"/>
          <a:stretch/>
        </p:blipFill>
        <p:spPr>
          <a:xfrm>
            <a:off x="1143000" y="1981080"/>
            <a:ext cx="2930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Comic Sans MS"/>
              </a:rPr>
              <a:t>And finally, myth …                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If I fail then the whole thing will have been a waste of time…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body likes to fail an exam, and nothing here can take the sting away…but you can learn from mistakes you make in the exam, correct them and pass next tim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C:\WINDOWS\Application Data\Microsoft\Media Catalog\pcs_popular_182.wmf"/>
          <p:cNvPicPr/>
          <p:nvPr/>
        </p:nvPicPr>
        <p:blipFill>
          <a:blip r:embed="rId1"/>
          <a:stretch/>
        </p:blipFill>
        <p:spPr>
          <a:xfrm>
            <a:off x="6067440" y="2017800"/>
            <a:ext cx="1965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o you have a good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ually – people think, NO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– there is a difference between short- and long- term memory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tudents need to build long term memor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Short &amp; long term mem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hort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MALL: 5-9 pieces of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rief stay (little persistenc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mediate input – it goes in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mmediate access – it’s there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T useful for students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21:13:12Z</dcterms:created>
  <dc:creator>HOLLEY</dc:creator>
  <dc:description/>
  <dc:language>en-US</dc:language>
  <cp:lastModifiedBy>Bakri</cp:lastModifiedBy>
  <dcterms:modified xsi:type="dcterms:W3CDTF">2015-11-19T04:26:27Z</dcterms:modified>
  <cp:revision>20</cp:revision>
  <dc:subject/>
  <dc:title>Revision and exam technique</dc:title>
</cp:coreProperties>
</file>